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1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3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774-2C20-4FC8-8137-B9D8ACDE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EB3-AA43-42AD-A6FF-518CDD5D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D11-2083-4494-9338-FC9171FF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62B-7561-4625-8A59-9CCD918B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B1A-1F79-4F42-8566-7CD1EA20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593-8A50-4B41-8FEA-0AF73708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E2A-1C78-43DB-AAC3-3D954021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3B6-4B1F-45B0-8492-F0F8D317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4AC-6EB4-4216-9DEF-B3607269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448-6864-40C0-832F-66146BF7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05E-A14D-4571-91C9-FEF408C7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D1C-CA0D-46A7-86A4-EC2F42C6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8F42-DF1A-4975-A555-9BC33B7A5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soldat"/>
          <p:cNvPicPr/>
          <p:nvPr/>
        </p:nvPicPr>
        <p:blipFill>
          <a:blip r:embed="rId1"/>
          <a:stretch/>
        </p:blipFill>
        <p:spPr>
          <a:xfrm>
            <a:off x="2971800" y="1981080"/>
            <a:ext cx="281952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121920" y="199080"/>
            <a:ext cx="3574800" cy="5814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99ffcc"/>
              </a:gs>
              <a:gs pos="100000">
                <a:srgbClr val="cc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боры в армию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83600" y="806400"/>
            <a:ext cx="8768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сок необходимых вещей для призывного пун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0320" y="1585800"/>
            <a:ext cx="306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юкз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Зубная пас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убная щё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Мы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3760" y="3589200"/>
            <a:ext cx="249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олотенц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Продук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пи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Ни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700080" y="1711080"/>
            <a:ext cx="241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Игол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Нож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Лож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Нож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987280" y="3741480"/>
            <a:ext cx="313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Круж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. Чистое бель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Ру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. Бум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1" descr="pic_2006-02-20_080035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6908760" y="1577880"/>
            <a:ext cx="18036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"/>
          <p:cNvSpPr/>
          <p:nvPr/>
        </p:nvSpPr>
        <p:spPr>
          <a:xfrm>
            <a:off x="2847240" y="-720"/>
            <a:ext cx="386424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cc99"/>
              </a:gs>
              <a:gs pos="100000">
                <a:srgbClr val="cc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Армейский сленг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70720" y="52128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мб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84320" y="10461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оеннослужащий, закончивший срочную службу в арм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40400" y="215892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ала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21400" y="2702520"/>
            <a:ext cx="38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лдат новобра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09520" y="3186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ерп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167760" y="366372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лдат, принявший прися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315000" y="42663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у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1224000" y="43372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зывник, еще не принявший прися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217800" y="527616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е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104760" y="592128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тарослужащий солд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0" descr=""/>
          <p:cNvPicPr/>
          <p:nvPr/>
        </p:nvPicPr>
        <p:blipFill>
          <a:blip r:embed="rId1"/>
          <a:stretch/>
        </p:blipFill>
        <p:spPr>
          <a:xfrm>
            <a:off x="5486400" y="1770120"/>
            <a:ext cx="3219480" cy="2415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"/>
          <p:cNvPicPr/>
          <p:nvPr/>
        </p:nvPicPr>
        <p:blipFill>
          <a:blip r:embed="rId2"/>
          <a:stretch/>
        </p:blipFill>
        <p:spPr>
          <a:xfrm>
            <a:off x="6215040" y="4527720"/>
            <a:ext cx="26668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://www.arms-expo.ru/upload/iblock/be6/be620c076e22b4b054916fa724a5d113.jpg"/>
          <p:cNvPicPr/>
          <p:nvPr/>
        </p:nvPicPr>
        <p:blipFill>
          <a:blip r:embed="rId1"/>
          <a:stretch/>
        </p:blipFill>
        <p:spPr>
          <a:xfrm>
            <a:off x="-17640" y="-95400"/>
            <a:ext cx="3598920" cy="2162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-17640" y="2286000"/>
            <a:ext cx="3171960" cy="267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3344760" y="2176560"/>
            <a:ext cx="2851200" cy="201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3151080" y="4962600"/>
            <a:ext cx="3073680" cy="189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6224760" y="-14400"/>
            <a:ext cx="291924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5" descr="2561440[1]"/>
          <p:cNvPicPr/>
          <p:nvPr/>
        </p:nvPicPr>
        <p:blipFill>
          <a:blip r:embed="rId1"/>
          <a:stretch/>
        </p:blipFill>
        <p:spPr>
          <a:xfrm>
            <a:off x="6284880" y="373392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5120" y="972720"/>
            <a:ext cx="554364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нозоркого мне дал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ко мне приблизил дал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850680" y="226908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нок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1680" y="2971800"/>
            <a:ext cx="5715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5" descr="2561440[1]"/>
          <p:cNvPicPr/>
          <p:nvPr/>
        </p:nvPicPr>
        <p:blipFill>
          <a:blip r:embed="rId1"/>
          <a:stretch/>
        </p:blipFill>
        <p:spPr>
          <a:xfrm>
            <a:off x="6253200" y="3759120"/>
            <a:ext cx="2819520" cy="3124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36680" y="884160"/>
            <a:ext cx="430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евушка» ход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сню завод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г услыши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зу не дыш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929160" y="327564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Катюш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6477120" y="182520"/>
            <a:ext cx="2408040" cy="3551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"/>
          <p:cNvPicPr/>
          <p:nvPr/>
        </p:nvPicPr>
        <p:blipFill>
          <a:blip r:embed="rId3"/>
          <a:stretch/>
        </p:blipFill>
        <p:spPr>
          <a:xfrm>
            <a:off x="966960" y="3797280"/>
            <a:ext cx="41385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5" descr="2561440[1]"/>
          <p:cNvPicPr/>
          <p:nvPr/>
        </p:nvPicPr>
        <p:blipFill>
          <a:blip r:embed="rId1"/>
          <a:stretch/>
        </p:blipFill>
        <p:spPr>
          <a:xfrm>
            <a:off x="6323040" y="371484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97720" y="592560"/>
            <a:ext cx="353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горе-гор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ят стару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охн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 глохну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410800" y="11898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уш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14520" y="2971800"/>
            <a:ext cx="4825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314280" y="442440"/>
            <a:ext cx="387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зёт черепа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льная рубах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аг – в о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на, где вра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91200" y="266436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анк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962520" y="1087560"/>
            <a:ext cx="5016240" cy="3735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685800" y="4165560"/>
            <a:ext cx="1981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5" descr="2561440[1]"/>
          <p:cNvPicPr/>
          <p:nvPr/>
        </p:nvPicPr>
        <p:blipFill>
          <a:blip r:embed="rId1"/>
          <a:stretch/>
        </p:blipFill>
        <p:spPr>
          <a:xfrm>
            <a:off x="38160" y="363852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2120" y="668520"/>
            <a:ext cx="422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свято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изны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очью, и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огоде любой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5082120" y="1035720"/>
            <a:ext cx="28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гранич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3772080" y="2906640"/>
            <a:ext cx="52178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85840" y="917640"/>
            <a:ext cx="85341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О ком в армии говорят, что они ошибаются один раз в жизн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760" y="220968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о сапё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895480" y="186840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0880" y="992160"/>
            <a:ext cx="8876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 называется здание, в котором живут солдат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44240" y="18921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казар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175280" y="167652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-68400" y="4267080"/>
            <a:ext cx="3984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9080" y="974160"/>
            <a:ext cx="89154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ак называют бойца, владеющего искусством меткой стрельбы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91680" y="215964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снайп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495680" y="3600360"/>
            <a:ext cx="4687920" cy="321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-36360" y="3581280"/>
            <a:ext cx="47210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133720" y="720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8280" y="711000"/>
            <a:ext cx="4191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Что такое камуфляж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9080" y="12369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кировк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дметов путём окраски полосами, пятнами, искажающими их очертани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2362320" cy="361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2313000"/>
            <a:ext cx="1905120" cy="206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1905120" y="2514600"/>
            <a:ext cx="467676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-26640" y="847800"/>
            <a:ext cx="6976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Какие головные уборы носят солдаты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3320" y="1554120"/>
            <a:ext cx="48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фуражк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пилотк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ас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26320" y="985680"/>
            <a:ext cx="2190600" cy="27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52280" y="2076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2133720" y="4224240"/>
            <a:ext cx="3956040" cy="2595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7034040" y="3981600"/>
            <a:ext cx="18590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58320" y="788760"/>
            <a:ext cx="54507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Что такое наряд вне очереди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62640" y="1386000"/>
            <a:ext cx="78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мейское взыскани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ебование выполнить определённую работ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9080" y="2604600"/>
            <a:ext cx="84582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Как называют наплечные знаки в русской армии и на флоте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233640" y="3732840"/>
            <a:ext cx="31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пого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по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7" descr=""/>
          <p:cNvPicPr/>
          <p:nvPr/>
        </p:nvPicPr>
        <p:blipFill>
          <a:blip r:embed="rId1"/>
          <a:stretch/>
        </p:blipFill>
        <p:spPr>
          <a:xfrm>
            <a:off x="609480" y="4282920"/>
            <a:ext cx="2576520" cy="2417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"/>
          <p:cNvPicPr/>
          <p:nvPr/>
        </p:nvPicPr>
        <p:blipFill>
          <a:blip r:embed="rId2"/>
          <a:stretch/>
        </p:blipFill>
        <p:spPr>
          <a:xfrm>
            <a:off x="6629400" y="4254480"/>
            <a:ext cx="2185920" cy="2498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"/>
          <p:cNvPicPr/>
          <p:nvPr/>
        </p:nvPicPr>
        <p:blipFill>
          <a:blip r:embed="rId3"/>
          <a:stretch/>
        </p:blipFill>
        <p:spPr>
          <a:xfrm>
            <a:off x="3809880" y="4221000"/>
            <a:ext cx="24051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31840" y="30384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называется смотр войск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316280" y="3801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ара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08880" y="91332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Чем заканчивается успешная вой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087320" y="9900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обед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304920" y="1522800"/>
            <a:ext cx="48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Где прячется солдат от пуль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7163640" y="15994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в окоп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34360" y="22086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. Военный китель или блюдо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5869800" y="228528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картошка в мунди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228600" y="29703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. Приспособление для размещения патронов в огнестрель- ном оружии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7165440" y="3428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магаз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228600" y="40370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3. Гусеничная военная машина с поворотной артиллерийс- кой башне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7317000" y="449496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тан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308160" y="5180400"/>
            <a:ext cx="77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4. Чем солдаты защищаются от отравляющих газов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784200" y="56379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ротивога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1" descr="221190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28600" y="303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5. Какого цвета каски носят солдаты миротворческих сил ООН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258880" y="76140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голуб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- цвет мирного не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28600" y="1103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. Секретное условное слово или фраза, которые используются для опознавания своих людей в караульн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163640" y="190440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ар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28600" y="2346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7. Какое подразделение солдат обозначается тем же словом, что и источник питания постоянного электрического ток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7164720" y="312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батаре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28600" y="3421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. Какое подразделение солдат обозначается тем же словом, что и приспособление в ударном механизм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7317000" y="388548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вз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47320" y="4266000"/>
            <a:ext cx="88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. Название какого огнестрельного оружия начинается нот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7012800" y="472356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револьв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04920" y="49910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. Какое название радиолокационной установки и огнестрельного оружия можно читать как слева направо, так и справа налево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7239960" y="57906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ра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2211551[1]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uriya</dc:creator>
  <dc:description/>
  <dc:language>en-US</dc:language>
  <cp:lastModifiedBy>NAPetrova</cp:lastModifiedBy>
  <dcterms:modified xsi:type="dcterms:W3CDTF">2020-03-11T00:46:17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